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2218-D7A4-4B80-BDA9-15F7F9308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3E17-735B-4B38-822F-47EBAF54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3A490-B833-4B0F-AF35-F5DF554C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72A23-1B46-4C55-82AC-664F2BE7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E2D1A-70E7-4423-9FDB-707239C1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B94E2-8064-4202-B0FA-37A09614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3DE85-E1EA-43D3-8D7A-441F47A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D708A-D95D-4B93-BF04-5EBD16E7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C27C0-3B7F-4448-B39F-101F0D4F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65A69-BB98-4517-A66A-FD63D435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3D68D-A8E7-4A8D-AEA3-FC8A9189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0AE392-20B6-43D3-BC13-25E26040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B2A-A2FD-4566-95FF-56E4CD8F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98EC11-108D-4687-BAF6-53047014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1D75D-E02B-4705-BABE-5B03591A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AED37-0261-444A-B1E7-C239430F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582E5-3586-45AC-89B2-9DA31A3A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8578A-1C38-41F9-A3A7-0137C541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DE01B-FDC6-438C-B7FB-DCA72886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D7279-C734-422D-9E0C-3FDBA755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1399D-0D65-4411-9659-6F173441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74B11-B7E6-4FC0-BDEF-90F946A5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D6D39-CDE1-4CEB-8D9B-6C842A5F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B9CC-2580-4E7B-9354-B3DA59FD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BB0441-CBC8-401E-AFA7-EF333D3E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86F61-B6C1-440D-9625-B0C3D5EC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DBAE5-FECD-4503-8EBF-057B233C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0DA60-4DCD-4EF0-9D09-2032A3C2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7FFA2-F165-42AD-A764-6232EC35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2ABCE-44B1-4A93-B8F1-8608F9D6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7D72B-8428-4516-A914-BD9A6461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A9B7E-E96C-4466-97C5-D187F9B4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0D27-FF96-45C1-A576-02595F29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D5911-0A59-4851-8EB1-44F2D5B7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249FF-B38B-4BF0-A17D-83A2F9EE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49EC3-EEC6-4FB3-BAAD-88F82D12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BE3BF-CA3F-4F26-9A5E-2A0ACD85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53AE6-9BAD-4637-8BDF-A763D34F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874F5-E796-46D1-8E83-CA98080BE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76BE8-F06F-4D18-9FA8-8AB12589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7D8D-6446-46E6-8915-8FC2820C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C4EE8-AB67-4710-8AE0-CD16A7FE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6FD1-B03C-45B3-9362-0C8F8ED4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C988-0264-4724-98C9-EBC2ED10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63C4C-A0A9-4E8B-A0A7-4B9AC187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9DCF7-BBA2-4FB0-9E9E-CA4DDB3C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D211E-05C0-4EFD-946D-F60AC018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D1B9-B82A-48B6-A520-504764E3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F41C9-8206-499B-ABE1-AFB70253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2523-B887-4C8C-BA14-DDD6B44C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29982-6534-416E-8862-3BA869D8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F7563-8E9F-4D06-AFC1-3D8E1A4A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BB086-4FDC-4DA8-B9FB-50001BDE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E6C6E-1C7A-4177-83CD-52C1D9DE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A9A-BBDF-4935-A04F-1C261656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B4E64-3929-416B-98AF-2FD44508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A5E9A-5226-43ED-9ACD-3FB0E196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1957-2308-4D0D-96D7-75BA0773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4AFC5-1399-480D-A650-75752224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6AC5-AB13-486E-873B-1E61CD2B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1B2B8-D825-4EA1-A4D4-D496DCAF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FBA20-4D18-4769-B34E-F42E7886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970DC-3E8A-4797-A4F2-D6F1356F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E5F30-6786-4554-9A8B-B70AB708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1A270-9578-42C1-A4C8-FAC7FF5C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C55B-1A6C-4C80-8D1D-5EC3B5BB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B935A-9869-4FD1-AD88-69323E23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A2E5F-8BDA-4B23-9029-B921005D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EDFAD-C7D3-4135-A790-50F97632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A80D6-F561-4A4A-9386-ED47C337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C1973-915E-4912-8EA9-F54F7E6E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E7CB9-52FC-4E2C-854A-D26FFBD4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2C6E3-FF1E-4238-9E04-83E3867E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F513F-A514-4660-A1AB-7840089B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1D6D4-74FD-4775-8388-144668C7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357CE-2C95-4106-826E-B53B9216A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E37B-7BD7-41B9-A76E-5EB30BA4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F63EC-1E96-477A-872F-05979F1A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2C759-1A5E-4505-B888-0E477790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BF02B-B2F9-496D-996E-DCD59FAE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F38E8-0203-46B8-852B-07DD0FD7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CBF3F-FB12-4A76-A11A-54EB98EF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2022C-476C-49F2-968D-5D600E43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DA4C0-2A74-40F8-B807-080E26CF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DC9C1-F444-48A7-AC32-F330FE32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CCF31-923C-4005-8774-3EE679BE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92705-FC87-492F-BE12-ADD3A9C6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AAA-0F19-4C8A-83F1-6413234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03E8C-C5AD-4D8F-BC20-8146C895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B7455-59C1-4228-A4D9-368A6E428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08C0D-8F67-4A0F-9CBB-CA006796F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3000E-F241-4277-9308-91BBAED8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CCB76-2664-4A91-9322-D1945C8E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E11AB-F69A-4B87-A1C5-B0C54FFF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B597E-6908-4282-8D38-001C71EA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C0CC9-8017-450B-9C64-8DA4BC0C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26175-1DA9-427A-B004-DACB87127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7E2E0-38DE-45DA-AE25-78377102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F115-B323-4B9C-81E5-BB415477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DC1C7-587C-4C38-BCBD-5982CA7E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21740-591C-430A-A377-C27B0F7B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52EB0-2617-452E-8B05-52DC6E14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0412D-CF5A-422F-B1EC-5562ED7F4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FD212-BC4B-4614-926E-DDD4AAF5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7EF77-6A2E-4F30-82AA-8EE342FA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14FE4-0DC3-4E29-A8AE-87935CFA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26DBC-8957-42FA-A1EE-956F2EFA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96887-7380-4D56-A17D-A119A664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9357D-58D1-4FCE-AB5F-AD0A3A2C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2DA5-602A-43F6-9D57-4D9ADD97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50723-FF3C-4BA9-A6D6-6B2DBC00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0CF36-CF23-4C17-BFB8-DDEF32A3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34F14-CE99-4ECF-82FF-60074834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F3F89-8DE4-4421-910B-0C99AFF3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7843F-EEAC-4593-87FC-67945073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9CD16-A66D-4B3C-8082-E203F1B2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629CE-032F-45E3-B976-EC5FAA98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3A7B5E-72E6-4E72-A892-EA9C6AC3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1CBB7-E273-408C-B575-43E22E88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B1C3B-45A1-405E-B9CE-1BAA1C1B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C366-DC04-46FB-BE5C-46347DDA8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dt" idx="28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C82F-7380-4E3F-A167-DB5B0B7FBB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90DE-00DF-48A9-B909-1CD6ECFC6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2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14B0-344C-45A0-85A6-BB23763F76C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9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768D-3C9B-4C4C-AE38-6D2A469BB8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AFB7-C0AF-42AC-9838-351199D27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05E1-20EE-4B63-A1AF-D235E9079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54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19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ftr" idx="20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A43E-A429-415D-87BD-73A96D79F4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60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62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D345-F66E-4E40-8322-4ECDBEE064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25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C7DA-3813-4B47-8146-293498AF1C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547640" y="177336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كثيرات الحدود – ثاني متوسط – 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Traditional Arabic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136440" y="2724120"/>
            <a:ext cx="8893440" cy="413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77920" y="271440"/>
            <a:ext cx="8675640" cy="230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788000" y="501336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716360" y="1844640"/>
            <a:ext cx="158436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116000" y="404640"/>
            <a:ext cx="7488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درجة كثيرة الحدود :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- س @ + 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ه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خامس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ب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رابعة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د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-274680" y="285264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إذا رتبنا كثيرة الحدود : س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– 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تنازليا ً تصب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# - س@ 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 - س# + س 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- س# - س@ +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د~ س# + س@ +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971640" y="4508640"/>
            <a:ext cx="3095640" cy="2349360"/>
          </a:xfrm>
          <a:prstGeom prst="flowChartMultidocumen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57240">
            <a:solidFill>
              <a:srgbClr val="0de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4888080"/>
            <a:ext cx="287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وإلى اللقاء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9640" y="5661000"/>
            <a:ext cx="28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Verdana"/>
              </a:rPr>
              <a:t>محمد السي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5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56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57" dur="1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mph" presetID="32" repeatCount="5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1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animClr clrSpc="rgb">
                                      <p:cBhvr>
                                        <p:cTn id="1072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6699"/>
                                      </p:to>
                                    </p:animClr>
                                    <p:set>
                                      <p:cBhvr>
                                        <p:cTn id="1073" dur="1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3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3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9640" y="2276640"/>
            <a:ext cx="8353440" cy="458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39640" y="1197000"/>
            <a:ext cx="8353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076720" y="5084640"/>
            <a:ext cx="1871640" cy="865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987640" y="3141720"/>
            <a:ext cx="2160720" cy="10792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219800" y="1341360"/>
            <a:ext cx="1619280" cy="720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771640" y="42840"/>
            <a:ext cx="4464360" cy="93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b7f6a8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340000" y="-14400"/>
            <a:ext cx="432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463416"/>
                </a:solidFill>
                <a:latin typeface="Arial"/>
              </a:rPr>
              <a:t>كثيرات الحدود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-439560" y="1268280"/>
            <a:ext cx="9396360" cy="89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تمهيد :  اختر الإجابة الصحيحة فيما يأت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حيدة الحد فيما يلي هي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#؛    ب~ ذ س+ص    ج~ ذ س ص     د~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ذ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درجة وحيدة الحد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النسبة للمتغير س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ا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ولى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ب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ثان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 ج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ثالثة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  د~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رابع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~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ناتج جمع 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+ </a:t>
            </a:r>
            <a:r>
              <a:rPr b="1" lang="hi-IN" sz="4000" spc="-1" strike="noStrike">
                <a:solidFill>
                  <a:srgbClr val="000000"/>
                </a:solidFill>
                <a:latin typeface="Arial"/>
                <a:cs typeface="Al-KsorZulfiMath"/>
              </a:rPr>
              <a:t>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abic Transparent"/>
              </a:rPr>
              <a:t> 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l-KsorZulfiMath"/>
              </a:rPr>
              <a:t>@ 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361280" y="35352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971640" y="31971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  <a:cs typeface="Al-KsorZulfiMath"/>
              </a:rPr>
              <a:t>ذ 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1258920" y="3716280"/>
            <a:ext cx="792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971640" y="357336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Arial"/>
              </a:rPr>
              <a:t>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6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52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53" dur="1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41360" y="4371840"/>
            <a:ext cx="8569440" cy="24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38120" y="2674800"/>
            <a:ext cx="8569440" cy="169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6280" y="184320"/>
            <a:ext cx="8569440" cy="24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19640" y="1341360"/>
            <a:ext cx="280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7732800" y="4149720"/>
            <a:ext cx="1258920" cy="719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588080" y="2708280"/>
            <a:ext cx="1403640" cy="649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916280"/>
            <a:ext cx="1944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64000" y="260280"/>
            <a:ext cx="1944720" cy="6476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68360" y="270000"/>
            <a:ext cx="867564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~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ب @       ج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 $        د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6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ب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ناتج طرح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 –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=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ا~  ذ ا ب    ب~ -ذ ا@ب@    ج~ - ذ ا ب     د~  ذ ا@ب@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-160200" y="263700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تعريف : كثيرة الحدود هي عبارة رياضية ناتجة عن جم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حيدتي حد أو أكثر غير متشابهتي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أمثلة :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ص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~ ذ ا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ب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ب@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 س# - س@  +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68360" y="429264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ar-SA" sz="3600" spc="-1" strike="noStrike">
                <a:solidFill>
                  <a:srgbClr val="ff3300"/>
                </a:solidFill>
                <a:latin typeface="Verdana"/>
              </a:rPr>
              <a:t>وتسمى ثنائية ح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5084640"/>
            <a:ext cx="52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       وتسمى ثلاثي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24000" y="595008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       وتسمى رباعية حدود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340000" y="126828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كثيرات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6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582480" y="4348080"/>
            <a:ext cx="8353440" cy="250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9960" y="1927080"/>
            <a:ext cx="8353440" cy="23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39640" y="100080"/>
            <a:ext cx="835344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910640" y="4394160"/>
            <a:ext cx="104292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3492360" y="944640"/>
            <a:ext cx="3311640" cy="9367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76360" y="189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وكل منها يسمى كثيرة 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2506680" y="1031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تبسيط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-190440" y="202104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تكون كثيرة الحدود غير مبسطة إذا وجد فيها على الأقل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حدين متشابهين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0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مثل : 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 -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تبسيطها يكون بجمع حدودها المتشابه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مثال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@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=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@ +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–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=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600" spc="-1" strike="noStrike">
                <a:solidFill>
                  <a:srgbClr val="000000"/>
                </a:solidFill>
                <a:latin typeface="Verdana"/>
                <a:cs typeface="Al-KsorZulfiMath"/>
              </a:rPr>
              <a:t>ا + ذ ب – ذ ا + ب -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5445000"/>
            <a:ext cx="32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س@ +ذ س +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11280" y="630864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ا 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l-KsorZulfiMath"/>
              </a:rPr>
              <a:t> ب - 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6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6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971640" y="1484280"/>
            <a:ext cx="7921440" cy="403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971640" y="260280"/>
            <a:ext cx="792144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364000" y="271440"/>
            <a:ext cx="3456000" cy="720720"/>
          </a:xfrm>
          <a:custGeom>
            <a:avLst/>
            <a:gdLst>
              <a:gd name="textAreaLeft" fmla="*/ 0 w 3456000"/>
              <a:gd name="textAreaRight" fmla="*/ 3456360 w 3456000"/>
              <a:gd name="textAreaTop" fmla="*/ 93240 h 720720"/>
              <a:gd name="textAreaBottom" fmla="*/ 6274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84160" y="260280"/>
            <a:ext cx="799308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0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: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حدد أيا ً من كثيرات الحدود التالية مبسطة وأيا ً منها غير مبسطة ، وبسط غير المبسط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ص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ص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0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ب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ج~ -ذ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ص 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د~ %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@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640" y="162864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= - ذ س +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9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84360" y="2205000"/>
            <a:ext cx="41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  مبسطة لأن حدودها مختلق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39640" y="2997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=   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س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826920" y="3684600"/>
            <a:ext cx="46818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 %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- $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=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!؛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6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l-KsorZulfiMath"/>
              </a:rPr>
              <a:t> س + </a:t>
            </a:r>
            <a:r>
              <a:rPr b="1" lang="en-US" sz="4000" spc="-1" strike="noStrike">
                <a:solidFill>
                  <a:srgbClr val="ff3300"/>
                </a:solidFill>
                <a:latin typeface="Verdana"/>
                <a:ea typeface="Arabic Transparent"/>
              </a:rPr>
              <a:t>8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77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9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1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3" dur="77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770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9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1" dur="77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6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77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4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8" dur="77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77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5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7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9" dur="77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281160" y="3789360"/>
            <a:ext cx="8634240" cy="27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333520"/>
            <a:ext cx="8634240" cy="1382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8040" y="1031760"/>
            <a:ext cx="8634600" cy="12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956720" y="2421000"/>
            <a:ext cx="936360" cy="7207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771640" y="127080"/>
            <a:ext cx="4032360" cy="86364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814480" y="146160"/>
            <a:ext cx="33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3300"/>
                </a:solidFill>
                <a:latin typeface="Verdana"/>
              </a:rPr>
              <a:t>درجة كثيرة الحدو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19240" y="1146240"/>
            <a:ext cx="88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درجة كثيرة الحدود بالنسبة لمتغير فيها تساوي أكبر أس  لهذا المتغير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84360" y="25322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Verdana"/>
              </a:rPr>
              <a:t>أمثلة :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~ ذ س# +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 -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564000" y="2997360"/>
            <a:ext cx="50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بالنسبة للمتغير س من الدرج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893880" y="31035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hi-IN" sz="36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03640" y="386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س ص% + ذ س@ - س# ص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-92160" y="3860640"/>
            <a:ext cx="450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093080" y="465300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95280" y="465300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الخام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835280" y="5661000"/>
            <a:ext cx="648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وبالنسبة للمتغيرين س ، ص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5640" y="5661000"/>
            <a:ext cx="165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سادس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77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2" dur="770" fill="hold"/>
                                        <p:tgtEl>
                                          <p:spTgt spid="7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4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403200" y="3789360"/>
            <a:ext cx="8604360" cy="2951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12000" y="5516640"/>
            <a:ext cx="104292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44600" y="146160"/>
            <a:ext cx="8604000" cy="360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40360" y="3933720"/>
            <a:ext cx="2879640" cy="64764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11280" y="907920"/>
            <a:ext cx="792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332000" y="836640"/>
            <a:ext cx="1152360" cy="649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27280" y="836640"/>
            <a:ext cx="1440000" cy="57636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140360" y="836640"/>
            <a:ext cx="1368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932360" y="26028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00cc66"/>
          </a:solidFill>
          <a:ln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643280" y="260280"/>
            <a:ext cx="41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 تدريب (</a:t>
            </a:r>
            <a:r>
              <a:rPr b="1" lang="hi-IN" sz="3600" spc="-1" strike="noStrike">
                <a:solidFill>
                  <a:srgbClr val="ff3300"/>
                </a:solidFill>
                <a:latin typeface="Verdana"/>
                <a:cs typeface="Al-KsorZulfiMath"/>
              </a:rPr>
              <a:t>ذ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 صفحة 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40</a:t>
            </a:r>
            <a:r>
              <a:rPr b="1" lang="en-US" sz="36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11280" y="907920"/>
            <a:ext cx="8208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عين درجة كثيرة الحدود: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س$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س#ص@ 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ص# -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بالنسبة للمتغير س من الدرج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وبالنسبة للمتغيرين س ، ص من الدرج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4360" y="170028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رابع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340000" y="249228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187280" y="314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Verdana"/>
              </a:rPr>
              <a:t> السابع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724360" y="3860640"/>
            <a:ext cx="30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Verdana"/>
              </a:rPr>
              <a:t> ترتيب كثيرة الح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68360" y="4724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ترتب كثيرة الحدود حسب أس المتغيرات المكونة لحدود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41440" y="5589720"/>
            <a:ext cx="806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مثال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ذ س$ + س# -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–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11280" y="602136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مرتبة ترتيبا ً تنازليا ً لأن اس المغير س متناقص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6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1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77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7" dur="770" fill="hold"/>
                                        <p:tgtEl>
                                          <p:spTgt spid="7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9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1" dur="77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77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8" dur="770" fill="hold"/>
                                        <p:tgtEl>
                                          <p:spTgt spid="7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0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77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770" fill="hold"/>
                                        <p:tgtEl>
                                          <p:spTgt spid="7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77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45960" y="2496960"/>
            <a:ext cx="8642520" cy="141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38160"/>
            <a:ext cx="8642160" cy="14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deb3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5640" y="3933720"/>
            <a:ext cx="1297080" cy="647640"/>
          </a:xfrm>
          <a:prstGeom prst="ellipse">
            <a:avLst/>
          </a:prstGeom>
          <a:solidFill>
            <a:srgbClr val="00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059280" y="1484280"/>
            <a:ext cx="360036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11280" y="260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وكثيرة الحدود :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 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 -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# + 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1" lang="ar-SA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9640" y="836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مرتبة تصاعديا ً حسب أس المتغير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11280" y="2565360"/>
            <a:ext cx="85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بسط كثيرة الحدود التالية ثم رتبها تصاعديا ً ، وما درجتها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–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- 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+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l-KsorZulfiMath"/>
              </a:rPr>
              <a:t>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-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7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 +ذ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@ +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 -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843280" y="162864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تدريب (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4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438360" y="393372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Verdana"/>
              </a:rPr>
              <a:t>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343640" y="4444920"/>
            <a:ext cx="180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 التبسيط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( -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 +ذ </a:t>
            </a:r>
            <a:r>
              <a:rPr b="0" lang="hi-IN" sz="3200" spc="-1" strike="noStrike">
                <a:solidFill>
                  <a:srgbClr val="ff33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804000" y="4941720"/>
            <a:ext cx="27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+ ذ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494172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+(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 – 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484360" y="494172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(-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588000" y="5516640"/>
            <a:ext cx="179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16360" y="551664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Verdana"/>
              </a:rPr>
              <a:t> + س</a:t>
            </a:r>
            <a:r>
              <a:rPr b="0" lang="en-US" sz="3200" spc="-1" strike="noStrike">
                <a:solidFill>
                  <a:srgbClr val="ff3300"/>
                </a:solidFill>
                <a:latin typeface="Verdana"/>
                <a:ea typeface="Al-KsorZulfiMath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14036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Verdana"/>
              </a:rPr>
              <a:t> + </a:t>
            </a:r>
            <a:r>
              <a:rPr b="0" lang="hi-IN" sz="3200" spc="-1" strike="noStrike">
                <a:solidFill>
                  <a:srgbClr val="0000ff"/>
                </a:solidFill>
                <a:latin typeface="Verdana"/>
                <a:cs typeface="Al-KsorZulfiMath"/>
              </a:rPr>
              <a:t>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70036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987640" y="62784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f6a8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ff3300"/>
                </a:solidFill>
                <a:latin typeface="Verdana"/>
              </a:rPr>
              <a:t>الترتيب تصاعديا ً: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ذ 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 +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س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@+ س#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4000" y="6226200"/>
            <a:ext cx="230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Verdana"/>
              </a:rPr>
              <a:t>الدرجة : الثالث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9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77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5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7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9" dur="770" fill="hold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4581360"/>
            <a:ext cx="9144000" cy="2276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2962440"/>
            <a:ext cx="9144000" cy="15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80880" y="692280"/>
            <a:ext cx="8748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1341360"/>
            <a:ext cx="9144000" cy="1582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492360" y="6021360"/>
            <a:ext cx="2374920" cy="57636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003640" y="3716280"/>
            <a:ext cx="2448000" cy="64944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64360" y="2060640"/>
            <a:ext cx="1728720" cy="72072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076720" y="0"/>
            <a:ext cx="3816360" cy="6922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932360" y="0"/>
            <a:ext cx="388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تمارين (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6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) صفحة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943280" y="76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اختر الإجابة الصحيحة لكل مما يأت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00000" y="141300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ثنائية حدين من الدرجة الأولى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 +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ب~ س@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3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# +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د~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7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$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11280" y="3141720"/>
            <a:ext cx="85327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ذ~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rabic Transparent"/>
              </a:rPr>
              <a:t>عبارة رياضية تدعى ثلاثية حدود هي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س#+ ص      ب~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hi-IN" sz="2800" spc="-1" strike="noStrike">
                <a:solidFill>
                  <a:srgbClr val="000000"/>
                </a:solidFill>
                <a:latin typeface="Verdana"/>
                <a:cs typeface="Al-KsorZulfiMath"/>
              </a:rPr>
              <a:t>س@ - س +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rabic Transparent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ج~   !؛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ب ج       د~   ؛؛؛؛؛؛؛؛؛؛؛؛؛؛؛؛؛؛؛؛؛؛؛؛؛؛؛؛؛؛؛؛؛؛؛؛؛؛؛؛؛؛؛؛؛؛؛؛؛؛؛؛؛؛؛؛؛؛؛؛؛؛؛؛؛؛؛؛؛؛؛؛؛؛؛؛؛؛؛؛؛؛؛؛؛؛؛؛؛؛؛؛؛؛؛؛؛؛؛؛؛؛؛؛؛؛؛؛؛؛؛؛؛؛؛؛؛؛؛؛؛؛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116000" y="3573360"/>
            <a:ext cx="14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س + 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547640" y="393372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58920" y="4581360"/>
            <a:ext cx="7885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~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rabic Transparent"/>
              </a:rPr>
              <a:t>كثيرة حدود في أبسط صورة هي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hi-IN" sz="3200" spc="-1" strike="noStrike">
                <a:solidFill>
                  <a:srgbClr val="000000"/>
                </a:solidFill>
                <a:latin typeface="Verdana"/>
                <a:cs typeface="Al-KsorZulfiMath"/>
              </a:rPr>
              <a:t>ا~ ص@ + ص – ص           ب~ !؛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 + ا#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ج~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+ س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l-KsorZulfiMath"/>
              </a:rPr>
              <a:t>               د~ ا@ + ا -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abic Transparent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4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9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8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6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4" dur="2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2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1:14:50Z</dcterms:created>
  <dc:creator>user</dc:creator>
  <dc:description/>
  <dc:language>en-US</dc:language>
  <cp:lastModifiedBy>Windows XP</cp:lastModifiedBy>
  <dcterms:modified xsi:type="dcterms:W3CDTF">2007-06-16T21:53:23Z</dcterms:modified>
  <cp:revision>11</cp:revision>
  <dc:subject/>
  <dc:title>الشريحة 1</dc:title>
</cp:coreProperties>
</file>